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28.png" ContentType="image/png"/>
  <Override PartName="/ppt/media/image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19.png" ContentType="image/png"/>
  <Override PartName="/ppt/media/image2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A944-57D8-4746-8180-ED4664E10D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EA1B-1B0F-4A45-A6ED-49717101AA49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955A-EDF1-4F1F-B52B-E603DB8939D2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4885-E624-4C90-9934-2910E8EB6746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036B-55A2-4C8C-8667-36E42CE5022A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565F-3538-4940-ADE1-AF14969A1235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8500-B93D-4543-911A-584AA0FC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6849-AC21-4836-BAD0-D9748701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3ADA-8CFA-4D95-A4F8-65BCA4ED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E06D-3927-48F0-89BA-44B1F2335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637BB-E272-4925-891C-58E9B3A4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B4DFD-BCF5-4F11-96BD-1868E70A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1C259-FD8B-4B4D-AB84-1754D7A3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37B24-EBBF-4FB7-89C9-413E2C8B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33A44-42C9-41C7-AA52-5FAA1149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63C72-EEDB-4099-AA71-F4E99D3E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04659-471C-4B82-B399-8197D667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FBA9-4D2B-404A-8874-EBE744AE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43E03-A72E-431B-9715-18294A01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5A392-4EE8-4F70-9AA5-776CE911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B298F-9FF7-4840-9009-B1B8D678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3A8FE-032C-40AF-AF6B-084919CB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BA809-ABC1-4D8C-A97E-01E0C629D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4C7FF-6311-44A9-8E19-604A4100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13D18-1185-4BBA-A16A-88F4F5D8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6BBAB-5694-4E71-99AE-5CA732DD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987A6-0C4C-438A-AF4C-307C2D00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D6EEA-3E5C-4EF2-A40E-58400558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FA3A-3AAA-4843-B423-DE09B206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BCE19-9E9D-4001-A48D-613D0854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B2A69-CDCF-41F5-AF31-1B850366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889AE-1792-4D22-A510-0D03BFD9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D7A7E-5FBB-4EAD-B47B-C35717D3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17E82-A1EF-462E-B2CB-E7D8745A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C6C01-8E90-41E3-B1F4-625C4A24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52977-E53A-405B-AD3C-BF4F9301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593855-10E8-4EE9-BEA3-323AA8CE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14DC5F-CDD5-4702-9238-EEBEF46D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1F7233-C669-42B4-AF74-659CA99A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280E-C604-4074-846E-C2C4E920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4ACDB9-FC0C-4361-9AF7-3948661B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27E55B-79FE-4DBB-B590-D93F4846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5B4AF0-27AC-4406-BEF7-FBA29109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E1F3C3-FCA6-403E-85C2-F6ACC920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CB45D5-2296-4127-9643-2C79115C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0AEA02-3276-44C0-8343-29FE013A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182FC2-3139-47EF-B78D-A6CDE4FC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063005-D8A3-4EEC-9A06-671DD2D2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1BED52-1912-4FCE-A658-A78BC980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6B7D38-536E-47F7-A745-54C4EFD3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2B80-346D-4190-ABA4-8FE4464E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D98762-D6CD-4AC3-891B-FEF13AA7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7468C7-B475-4863-8F77-DBD576E4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44D92A-7A08-4270-AB5C-C5EE456B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180704-E857-45DC-9B77-87ACD6BA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E160B4-6458-42FD-AB15-6B53E313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28AADE-4539-4DF0-A20F-207784AA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724971-4518-477B-8355-55EAF165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812097-A10D-4338-8E76-20E5ADC4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DF1BC3-BD5C-4DE4-98C8-5CCF2BD1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52FEDB-9132-449E-AB56-4DF7A17E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94C4-83E8-40E2-A694-03346545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FEBAE7-8D0C-4F90-9DF8-E3050B7D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6965D0-3D8F-4DBC-B0B0-D2E987DC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A0189C-1194-41A8-A7C3-B9F5ABF2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7567FB-8321-4159-8D79-81E97B19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31D0CD-9C76-40AA-B58D-FEAE747D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855A2C-A689-4667-A9F8-501F2C6A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94126E-EB3F-470D-B409-0CD3C26B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7F73BE-E699-4F82-8F86-266CE236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A40918-70B7-4C7F-93B3-EF3C12C1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BD2AC5-7D67-4C69-A4A7-6995D170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627F-4D1A-4A02-8840-68266F59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D5A796-0A46-40FF-B6DB-DBDB989A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746DC1-491A-49A3-AF54-09350DCE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E11C52-C0B4-4CEA-B8C8-8E659E90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822E-4EEE-447F-8A8F-806A6B89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A266-45C4-4734-9AD6-B666417D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24E3-82CD-40E9-916E-1B064AA245F7}" type="slidenum">
              <a:rPr b="0" lang="en-A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C2D0-2EE6-43FB-944A-69BBC7543CF6}" type="slidenum">
              <a:rPr b="0" lang="en-A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FEA2-B504-4793-9D16-E44CD6C85A52}" type="slidenum">
              <a:rPr b="0" lang="en-A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22DB-98D8-4132-9ACE-7BCFDF38B34B}" type="slidenum">
              <a:rPr b="0" lang="en-A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FAE0-D9A6-41AE-A789-E2FB481CAC36}" type="slidenum">
              <a:rPr b="0" lang="en-A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A1E2-738D-4B57-9DF3-7646BD6BC54C}" type="slidenum">
              <a:rPr b="0" lang="en-A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4.jpeg"/><Relationship Id="rId4" Type="http://schemas.openxmlformats.org/officeDocument/2006/relationships/image" Target="../media/image27.jpe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2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http://embode.files.wordpress.com/2008/11/the_eye_of_horus2.jpg"/>
          <p:cNvPicPr/>
          <p:nvPr/>
        </p:nvPicPr>
        <p:blipFill>
          <a:blip r:embed="rId2"/>
          <a:stretch/>
        </p:blipFill>
        <p:spPr>
          <a:xfrm>
            <a:off x="6804000" y="333360"/>
            <a:ext cx="19922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2" descr=""/>
          <p:cNvPicPr/>
          <p:nvPr/>
        </p:nvPicPr>
        <p:blipFill>
          <a:blip r:embed="rId1"/>
          <a:stretch/>
        </p:blipFill>
        <p:spPr>
          <a:xfrm>
            <a:off x="341280" y="36360"/>
            <a:ext cx="8454960" cy="14446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Constantia"/>
              </a:rPr>
              <a:t>Nernst – Artificial Membran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efac9"/>
                </a:solidFill>
                <a:latin typeface="Constantia"/>
              </a:rPr>
              <a:t>Diffusion of Ions </a:t>
            </a:r>
            <a:endParaRPr b="0" lang="en-US" sz="20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nstantia"/>
              </a:rPr>
              <a:t>Is there a transport of water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Constantia"/>
              </a:rPr>
              <a:t>Stepper Motor – Servo System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efac9"/>
                </a:solidFill>
                <a:latin typeface="Constantia"/>
              </a:rPr>
              <a:t>Pusing in and pushing out fluid </a:t>
            </a:r>
            <a:endParaRPr b="0" lang="en-US" sz="20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Constantia"/>
              </a:rPr>
              <a:t>Voltage Clamp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efac9"/>
                </a:solidFill>
                <a:latin typeface="Constantia"/>
              </a:rPr>
              <a:t>Using fixed voltage and determining how much to change to determine a transmission response </a:t>
            </a:r>
            <a:endParaRPr b="0" lang="en-US" sz="20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Constantia"/>
              </a:rPr>
              <a:t>Fluid Flow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efac9"/>
                </a:solidFill>
                <a:latin typeface="Constantia"/>
              </a:rPr>
              <a:t>Voltage Clamp</a:t>
            </a:r>
            <a:endParaRPr b="0" lang="en-US" sz="20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efac9"/>
                </a:solidFill>
                <a:latin typeface="Constantia"/>
              </a:rPr>
              <a:t>Chamber </a:t>
            </a:r>
            <a:endParaRPr b="0" lang="en-US" sz="20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nstantia"/>
              </a:rPr>
              <a:t>Artificial Membrane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sual method is to have a 2 mm diameter hole in teflon sheet between aqueous solutions.  Place 1 drop of (say) phospholipid in dodecane on hole and allow it to thin (as one would a soap bubble).  Eventually get an optically black lipid bilayer film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4" name="Title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pic>
        <p:nvPicPr>
          <p:cNvPr id="285" name="Title 2" descr=""/>
          <p:cNvPicPr/>
          <p:nvPr/>
        </p:nvPicPr>
        <p:blipFill>
          <a:blip r:embed="rId2"/>
          <a:stretch/>
        </p:blipFill>
        <p:spPr>
          <a:xfrm>
            <a:off x="317520" y="3638520"/>
            <a:ext cx="8461440" cy="1231920"/>
          </a:xfrm>
          <a:prstGeom prst="rect">
            <a:avLst/>
          </a:prstGeom>
          <a:ln w="0">
            <a:noFill/>
          </a:ln>
        </p:spPr>
      </p:pic>
      <p:sp>
        <p:nvSpPr>
          <p:cNvPr id="286" name="Content Placeholder 1"/>
          <p:cNvSpPr/>
          <p:nvPr/>
        </p:nvSpPr>
        <p:spPr>
          <a:xfrm>
            <a:off x="3059280" y="5300640"/>
            <a:ext cx="2387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Calibr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BhartFig1.jpg"/>
          <p:cNvPicPr/>
          <p:nvPr/>
        </p:nvPicPr>
        <p:blipFill>
          <a:blip r:embed="rId2"/>
          <a:stretch/>
        </p:blipFill>
        <p:spPr>
          <a:xfrm>
            <a:off x="2411280" y="836640"/>
            <a:ext cx="6183360" cy="5545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" descr="IMG0174A.jpg"/>
          <p:cNvPicPr/>
          <p:nvPr/>
        </p:nvPicPr>
        <p:blipFill>
          <a:blip r:embed="rId3"/>
          <a:stretch/>
        </p:blipFill>
        <p:spPr>
          <a:xfrm>
            <a:off x="108000" y="3357720"/>
            <a:ext cx="2286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"/>
          <p:cNvSpPr/>
          <p:nvPr/>
        </p:nvSpPr>
        <p:spPr>
          <a:xfrm>
            <a:off x="2556000" y="836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nstantia"/>
              </a:rPr>
              <a:t>Stepper Motor – Servo Syste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nstantia"/>
              </a:rPr>
              <a:t>Pushing in and pushing out fluid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2" name="Picture 2" descr="G:\IMG_1081.JPG"/>
          <p:cNvPicPr/>
          <p:nvPr/>
        </p:nvPicPr>
        <p:blipFill>
          <a:blip r:embed="rId2"/>
          <a:stretch/>
        </p:blipFill>
        <p:spPr>
          <a:xfrm>
            <a:off x="684360" y="170028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G:\IMG_1080.JPG"/>
          <p:cNvPicPr/>
          <p:nvPr/>
        </p:nvPicPr>
        <p:blipFill>
          <a:blip r:embed="rId3"/>
          <a:stretch/>
        </p:blipFill>
        <p:spPr>
          <a:xfrm>
            <a:off x="4643280" y="162864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G:\IMG_1079.JPG"/>
          <p:cNvPicPr/>
          <p:nvPr/>
        </p:nvPicPr>
        <p:blipFill>
          <a:blip r:embed="rId4"/>
          <a:srcRect l="18689" t="25233" r="17756" b="15885"/>
          <a:stretch/>
        </p:blipFill>
        <p:spPr>
          <a:xfrm>
            <a:off x="2916360" y="3716280"/>
            <a:ext cx="2376360" cy="293544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7"/>
          <p:cNvSpPr/>
          <p:nvPr/>
        </p:nvSpPr>
        <p:spPr>
          <a:xfrm>
            <a:off x="5508720" y="5661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nstantia"/>
              </a:rPr>
              <a:t>Sensor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7380360" y="587700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nstantia"/>
              </a:rPr>
              <a:t>Engineered by Davi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G:\IMG_1077.JPG"/>
          <p:cNvPicPr/>
          <p:nvPr/>
        </p:nvPicPr>
        <p:blipFill>
          <a:blip r:embed="rId2"/>
          <a:stretch/>
        </p:blipFill>
        <p:spPr>
          <a:xfrm>
            <a:off x="684360" y="1557360"/>
            <a:ext cx="6696000" cy="502128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6"/>
          <p:cNvSpPr/>
          <p:nvPr/>
        </p:nvSpPr>
        <p:spPr>
          <a:xfrm>
            <a:off x="7380360" y="587700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nstantia"/>
              </a:rPr>
              <a:t>Engineered by Davi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132000" y="76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nstantia"/>
              </a:rPr>
              <a:t>Stepper Motor – Servo Syste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nstantia"/>
              </a:rPr>
              <a:t>Pusing in and pushing out fluid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3179520" cy="1746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G:\IMG_1080.JPG"/>
          <p:cNvPicPr/>
          <p:nvPr/>
        </p:nvPicPr>
        <p:blipFill>
          <a:blip r:embed="rId3"/>
          <a:stretch/>
        </p:blipFill>
        <p:spPr>
          <a:xfrm>
            <a:off x="4788000" y="126828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G:\IMG_1077.JPG"/>
          <p:cNvPicPr/>
          <p:nvPr/>
        </p:nvPicPr>
        <p:blipFill>
          <a:blip r:embed="rId4"/>
          <a:stretch/>
        </p:blipFill>
        <p:spPr>
          <a:xfrm>
            <a:off x="755640" y="371628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5"/>
          <a:stretch/>
        </p:blipFill>
        <p:spPr>
          <a:xfrm>
            <a:off x="5435640" y="4076640"/>
            <a:ext cx="2900160" cy="2454480"/>
          </a:xfrm>
          <a:prstGeom prst="rect">
            <a:avLst/>
          </a:prstGeom>
          <a:ln w="0">
            <a:noFill/>
          </a:ln>
        </p:spPr>
      </p:pic>
      <p:pic>
        <p:nvPicPr>
          <p:cNvPr id="306" name="Straight Arrow Connector 9" descr=""/>
          <p:cNvPicPr/>
          <p:nvPr/>
        </p:nvPicPr>
        <p:blipFill>
          <a:blip r:embed="rId6"/>
          <a:stretch/>
        </p:blipFill>
        <p:spPr>
          <a:xfrm>
            <a:off x="3681360" y="2163600"/>
            <a:ext cx="1371600" cy="560520"/>
          </a:xfrm>
          <a:prstGeom prst="rect">
            <a:avLst/>
          </a:prstGeom>
          <a:ln w="0">
            <a:noFill/>
          </a:ln>
        </p:spPr>
      </p:pic>
      <p:pic>
        <p:nvPicPr>
          <p:cNvPr id="307" name="Straight Arrow Connector 10" descr=""/>
          <p:cNvPicPr/>
          <p:nvPr/>
        </p:nvPicPr>
        <p:blipFill>
          <a:blip r:embed="rId7"/>
          <a:stretch/>
        </p:blipFill>
        <p:spPr>
          <a:xfrm>
            <a:off x="3438360" y="2951280"/>
            <a:ext cx="816120" cy="888840"/>
          </a:xfrm>
          <a:prstGeom prst="rect">
            <a:avLst/>
          </a:prstGeom>
          <a:ln w="0">
            <a:noFill/>
          </a:ln>
        </p:spPr>
      </p:pic>
      <p:pic>
        <p:nvPicPr>
          <p:cNvPr id="308" name="Straight Arrow Connector 13" descr=""/>
          <p:cNvPicPr/>
          <p:nvPr/>
        </p:nvPicPr>
        <p:blipFill>
          <a:blip r:embed="rId8"/>
          <a:stretch/>
        </p:blipFill>
        <p:spPr>
          <a:xfrm>
            <a:off x="3949560" y="3017880"/>
            <a:ext cx="695520" cy="785880"/>
          </a:xfrm>
          <a:prstGeom prst="rect">
            <a:avLst/>
          </a:prstGeom>
          <a:ln w="0">
            <a:noFill/>
          </a:ln>
        </p:spPr>
      </p:pic>
      <p:pic>
        <p:nvPicPr>
          <p:cNvPr id="309" name="Straight Arrow Connector 15" descr=""/>
          <p:cNvPicPr/>
          <p:nvPr/>
        </p:nvPicPr>
        <p:blipFill>
          <a:blip r:embed="rId9"/>
          <a:stretch/>
        </p:blipFill>
        <p:spPr>
          <a:xfrm>
            <a:off x="1000080" y="2944800"/>
            <a:ext cx="695520" cy="785880"/>
          </a:xfrm>
          <a:prstGeom prst="rect">
            <a:avLst/>
          </a:prstGeom>
          <a:ln w="0">
            <a:noFill/>
          </a:ln>
        </p:spPr>
      </p:pic>
      <p:pic>
        <p:nvPicPr>
          <p:cNvPr id="310" name="Straight Arrow Connector 16" descr=""/>
          <p:cNvPicPr/>
          <p:nvPr/>
        </p:nvPicPr>
        <p:blipFill>
          <a:blip r:embed="rId10"/>
          <a:stretch/>
        </p:blipFill>
        <p:spPr>
          <a:xfrm>
            <a:off x="1279440" y="3097080"/>
            <a:ext cx="817560" cy="889200"/>
          </a:xfrm>
          <a:prstGeom prst="rect">
            <a:avLst/>
          </a:prstGeom>
          <a:ln w="0">
            <a:noFill/>
          </a:ln>
        </p:spPr>
      </p:pic>
      <p:pic>
        <p:nvPicPr>
          <p:cNvPr id="311" name="Straight Arrow Connector 17" descr=""/>
          <p:cNvPicPr/>
          <p:nvPr/>
        </p:nvPicPr>
        <p:blipFill>
          <a:blip r:embed="rId11"/>
          <a:stretch/>
        </p:blipFill>
        <p:spPr>
          <a:xfrm>
            <a:off x="3584520" y="1749600"/>
            <a:ext cx="878040" cy="529920"/>
          </a:xfrm>
          <a:prstGeom prst="rect">
            <a:avLst/>
          </a:prstGeom>
          <a:ln w="0">
            <a:noFill/>
          </a:ln>
        </p:spPr>
      </p:pic>
      <p:grpSp>
        <p:nvGrpSpPr>
          <p:cNvPr id="312" name="Equal 20"/>
          <p:cNvGrpSpPr/>
          <p:nvPr/>
        </p:nvGrpSpPr>
        <p:grpSpPr>
          <a:xfrm>
            <a:off x="4816440" y="4419720"/>
            <a:ext cx="590760" cy="469800"/>
            <a:chOff x="4816440" y="4419720"/>
            <a:chExt cx="590760" cy="469800"/>
          </a:xfrm>
        </p:grpSpPr>
        <p:pic>
          <p:nvPicPr>
            <p:cNvPr id="313" name="Equal 20" descr=""/>
            <p:cNvPicPr/>
            <p:nvPr/>
          </p:nvPicPr>
          <p:blipFill>
            <a:blip r:embed="rId12"/>
            <a:stretch/>
          </p:blipFill>
          <p:spPr>
            <a:xfrm>
              <a:off x="4816440" y="4419720"/>
              <a:ext cx="5907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927680" y="4525920"/>
              <a:ext cx="36972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4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"/>
          <p:cNvPicPr/>
          <p:nvPr/>
        </p:nvPicPr>
        <p:blipFill>
          <a:blip r:embed="rId2"/>
          <a:stretch/>
        </p:blipFill>
        <p:spPr>
          <a:xfrm>
            <a:off x="1835280" y="1268280"/>
            <a:ext cx="655308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2" descr=""/>
          <p:cNvPicPr/>
          <p:nvPr/>
        </p:nvPicPr>
        <p:blipFill>
          <a:blip r:embed="rId1"/>
          <a:stretch/>
        </p:blipFill>
        <p:spPr>
          <a:xfrm>
            <a:off x="603360" y="-324000"/>
            <a:ext cx="8242200" cy="12319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2"/>
          <a:stretch/>
        </p:blipFill>
        <p:spPr>
          <a:xfrm>
            <a:off x="1547640" y="1197000"/>
            <a:ext cx="6264360" cy="430200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6"/>
          <p:cNvSpPr/>
          <p:nvPr/>
        </p:nvSpPr>
        <p:spPr>
          <a:xfrm>
            <a:off x="1763640" y="5589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nstantia"/>
              </a:rPr>
              <a:t>www.ahaf.org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Power (Diopters)</a:t>
            </a: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focal length (metres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1  D </a:t>
            </a: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1  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2 D</a:t>
            </a: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.5 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Convex lens (has a positive power e.g +1.5 D) focal point forms convergent ligh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Concave lens (has negative power e.g -2D) focal point is traced back from diverging light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http://www.math.ubc.ca/~cass/courses/m309-01a/chu/MirrorsLenses/converge-diverge.gif"/>
          <p:cNvPicPr/>
          <p:nvPr/>
        </p:nvPicPr>
        <p:blipFill>
          <a:blip r:embed="rId1"/>
          <a:stretch/>
        </p:blipFill>
        <p:spPr>
          <a:xfrm>
            <a:off x="1979640" y="260280"/>
            <a:ext cx="4776840" cy="55450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4"/>
          <p:cNvSpPr/>
          <p:nvPr/>
        </p:nvSpPr>
        <p:spPr>
          <a:xfrm>
            <a:off x="1476360" y="5805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nstantia"/>
              </a:rPr>
              <a:t>http://www.math.ubc.ca/~cass/courses/m309-01a/chu/MirrorsLenses/lenses.ht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http://www.sapdesignguild.org/editions/highlight_articles_01/images/accomodation.png"/>
          <p:cNvPicPr/>
          <p:nvPr/>
        </p:nvPicPr>
        <p:blipFill>
          <a:blip r:embed="rId2"/>
          <a:stretch/>
        </p:blipFill>
        <p:spPr>
          <a:xfrm>
            <a:off x="539640" y="1341360"/>
            <a:ext cx="7993080" cy="471024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971640" y="59342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nstantia"/>
              </a:rPr>
              <a:t>http://www.sapdesignguild.org/editions/highlight_articles_01/images/accomodation.png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Emmetropia (normal vision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Myopia (short sightedness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efac9"/>
                </a:solidFill>
                <a:latin typeface="Constantia"/>
              </a:rPr>
              <a:t>Corrected with negative power len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Hyperopia ( Longsightness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efac9"/>
                </a:solidFill>
                <a:latin typeface="Constantia"/>
              </a:rPr>
              <a:t>Corrected with positive power glass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Presbyopia (age-related changes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efac9"/>
                </a:solidFill>
                <a:latin typeface="Constantia"/>
              </a:rPr>
              <a:t>Range of accommodation depletion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8600">
              <a:lnSpc>
                <a:spcPct val="9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Constantia"/>
              </a:rPr>
              <a:t>Multifocal or bifocal lens correction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72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Errors of Refraction. "/>
          <p:cNvPicPr/>
          <p:nvPr/>
        </p:nvPicPr>
        <p:blipFill>
          <a:blip r:embed="rId2"/>
          <a:stretch/>
        </p:blipFill>
        <p:spPr>
          <a:xfrm>
            <a:off x="1187280" y="1268280"/>
            <a:ext cx="6121440" cy="459108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4"/>
          <p:cNvSpPr/>
          <p:nvPr/>
        </p:nvSpPr>
        <p:spPr>
          <a:xfrm>
            <a:off x="826920" y="587700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nstantia"/>
              </a:rPr>
              <a:t>http://www.merckmanuals.com/professional/sec09/ch099/ch099a.htm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1187280" y="1413000"/>
            <a:ext cx="6121440" cy="444024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4"/>
          <p:cNvSpPr/>
          <p:nvPr/>
        </p:nvSpPr>
        <p:spPr>
          <a:xfrm>
            <a:off x="1187280" y="587700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nstantia"/>
              </a:rPr>
              <a:t>http://www.maculacenter.com/LightBox/glossaryImages/rpe.jpg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rucial for the maintenance of photoreceptor excitabil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main functions of the RPE are the following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01200" indent="-2563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(1) Transport of nutrients, ions, and water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01200" indent="-2563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(2) absorption of light and protection against photooxidation,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01200" indent="-2563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(3) reisomerization of all-trans-retinal into 11-cis-retinal, which is a key element of the visual cycle,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01200" indent="-2563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(4) phagocytosis of shed photoreceptor membranes, and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01200" indent="-2563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(5) secretion of various essential factors for the structural integrity of the retina.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0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1:11:05Z</dcterms:created>
  <dc:creator>bhart</dc:creator>
  <dc:description/>
  <dc:language>en-US</dc:language>
  <cp:lastModifiedBy>bhart</cp:lastModifiedBy>
  <dcterms:modified xsi:type="dcterms:W3CDTF">2011-03-23T02:10:45Z</dcterms:modified>
  <cp:revision>27</cp:revision>
  <dc:subject/>
  <dc:title>Jai Mata Di The Mechanism for Defocus-driven Occular Growth</dc:title>
</cp:coreProperties>
</file>